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BEDE-A23E-4C8F-A466-482600C3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F782-880F-4E80-B8F2-1E94CB5F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70C2-111E-43A6-9AFD-1B439CC3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2295-1B4E-4228-876E-62054EF6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9B93-81D9-4CC6-B610-95F646B6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E92B-04EB-48B4-B5E3-BC260F92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7FC2-7BCC-4079-8125-CD9B322C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E0B7-363E-48DD-A123-5E09663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EB41-585E-4148-B5BE-7D646B42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6386-E4E8-412D-8BFD-A09D5092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E20A-4820-438B-B749-EF557AB8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A890-D1EC-48C2-99E1-B821F56C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2857-BFFB-498B-9DC9-7A81FE7C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327A-F77D-4B12-845C-BB5A1FA1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A366-0418-4C0E-B863-462463D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D57D-C64F-435F-8C40-C0C1E908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22D5-3600-498C-ADB8-7B3AFB22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C265-DC3D-44A4-BF99-04A3433C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FC12-E1C4-4C3B-A024-003506F7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E92C3-A312-405E-8A80-1923EAA0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B094-F40A-411D-B28D-0E026442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A6EC-86E5-474E-ABAA-2B33FE41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48FD-2855-4C6C-9020-161F7B49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E8BB-2E8E-4B8E-BA48-B0DC64E9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BAC0-AA95-428C-A485-E53C07DC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4511-A3CF-47CA-B17E-F40D0C0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BB59-9962-4AA2-BB8B-4A183CAB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6243-3D7F-4FE4-9D97-400B30D1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F507-D1F9-4F4D-851C-9DE0F131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F2DD-C43F-4B69-9C4E-DB51CDAE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4B14-8B3C-4D9E-8864-829D990A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A80A-7AD0-4959-9B00-9455FBB9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1D1D-83FB-460F-87B4-D9FE013F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EA35-39F7-49AD-9979-B090CB91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7ACB-F2CD-401E-B181-2D98CBBF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8219-6450-4325-90C0-E8BCD1F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0567-50D5-48A1-91EA-57069C3C8A86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080C-25F6-4197-988D-154B9751A17E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324480" y="228600"/>
            <a:ext cx="255276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Ministère des Affaires étrangères - DSI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_Hornet_bitmap_500x348x128c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72840" cy="468360"/>
          </a:xfrm>
          <a:prstGeom prst="rect">
            <a:avLst/>
          </a:prstGeom>
          <a:ln w="0">
            <a:noFill/>
          </a:ln>
        </p:spPr>
      </p:pic>
      <p:sp>
        <p:nvSpPr>
          <p:cNvPr id="1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9D08-881E-438E-B4FC-3E0EE73A6BC7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08640"/>
            <a:ext cx="896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66699"/>
                </a:solidFill>
                <a:latin typeface="Tahoma"/>
                <a:ea typeface="Times New Roman"/>
              </a:rPr>
              <a:t>Ce document est la propriété du Ministère des Affaires étrangères et ne peut être ni divulgué ni copié sans son autorisation. Les citations doivent mentionner la source.</a:t>
            </a:r>
            <a:r>
              <a:rPr b="0" lang="en-US" sz="1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60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Logo_Hornet_bitmap_500x348x128c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7036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logo_MAE-BD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173808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8AEB-2383-421A-9E25-5DF3316A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cp:keywords>Hornet Modele de présentation</cp:keywords>
  <dc:language>en-US</dc:language>
  <cp:lastModifiedBy>Sébastien PERCIER</cp:lastModifiedBy>
  <dcterms:modified xsi:type="dcterms:W3CDTF">2012-09-28T13:52:37Z</dcterms:modified>
  <cp:revision>27</cp:revision>
  <dc:subject/>
  <dc:title>Modèle de présentation PowerPoint</dc:title>
</cp:coreProperties>
</file>